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BFA857-ED6B-4D66-88FA-8E0680E57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5444B8-0697-4352-AEAF-2E6C326E3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What does increased carbon dioxide in the blood ca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1B81E6-D934-4943-BBA2-5A1DD6606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asal polyps t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9C3824-3297-4196-AAF8-B563938F18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physician use a sclerosing agent for a nosebl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8A6589-D1BB-40C7-8782-FD67B08CC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ity of pulmonary emboli originate in the veins of the lower extremi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ypes of infection normally cause pneumonia? (Bacterial pneumonia: pneumococci, staphylococci, group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emolyt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reptococci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lebsiella pneumonia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1 and 2, gram-negative organisms 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gionel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aemophilus influenza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B. Viruses: adenoviruses, influenza viruses, and respiratory synctial virus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 determines the type of antibiotic prescribed for pneumon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33CAFE-49CD-4DC9-8BC2-EEC6C4E096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embolisms t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01A492-9198-41D7-B213-848D1C6DEB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organism-specific pneumonia t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5392DE-BF91-4016-8509-57978D5D49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pneumon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BC3A6D-2AEA-40EF-AFE5-1353881A0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pulmonary abscesses more commonly found? (in the lower portions of the lungs and in the right l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causative organism of a pulmonary abscess detec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CDFD76-7CA8-42D8-9278-174A3D75E4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nfluenza often become an epidemic? (the incubation period is only 1 to 3 days; transmission is by inhalation of the vir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groups are most at risk of complications from influenza? (the very young, the elderly, or the chronically i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issues surrounding inadequate supplies of the 2004 flu vacc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EEA4F4-42F7-4E51-8158-B91E6DCCC0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health care workers and parents of children target groups for influenza immun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DBC376-EDB9-4091-9070-881F435454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tients with COPD unable to do, and what are the consequences? (unable to ventilate the lungs freely, which results in an ineffective exchange of respiratory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ces between acute and chronic bronchitis. (chronic is similar to acute bronchitis, except that the inflammation persists and becomes wo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bronchitis usually develops as a consequence of which disea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0E8B6F-01EE-41DF-AD15-8F2366E9A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6FE71B-6DCF-433E-A77E-572B37A68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bacteria known to cause pneumonia (as mentioned previously) may be responsible for chronic bronch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E36C37-8E8E-49EB-B669-0914627DC8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f the possible effects of smoking? (cancer of oral cavity, larynx, esophagus, lung, pancreas, bladder; peptic ulcer; chronic bronchitis emphysema; myocardial infarction; systemic atheroscler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anti-smoking advertising campaigns from various associations and the tobacco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965D56-A15A-4FC4-9271-7332BCA575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7F5F18-BBDC-4FD5-93CE-CE5750B38A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n the lungs is bronchiectasis likely to develop? (lower lobes of the lu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circumoral cyan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p. 408, 41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F258DC-4846-40B0-AE3D-54A72A7B4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symptom of pleurisy? (sharp pain, which increases with inspiration and coughing; also, cough, fever, chi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deep-breathing exercises often prescribed for pleurisy pati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02AF8F-CA78-4970-9E1C-8C1AF9D5E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horacostomy proced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emothorax, how does blood enter the pleural cav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differences between pneumothorax and hemothor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14F229-0ED9-4B3C-B867-E338632AD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Fowler or semi-Fowler 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BF6577-094B-4D1A-8365-A7BDD7D596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ntoux test? (purified protein derivative, or PPD test: a standard intradermal test used to detect the presence of tuberculin antibod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biggest concern about the recent recurrence of tubercul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1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E9A553-5070-4CA0-A687-F082B8CA04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mononucleosis often called the “kissing disease?”(the Epstein-Barr virus is carried in the saliva of previously infected individuals and may be transmitted through the oral pharyngeal route (e.g., during kissing) or through blood transfu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ng complications, how long does recovery from mononucleosis usually take? (3-4 month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41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29A082-B28A-4E0A-9064-4345597F78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eps should a person take when experiencing some of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22911E-0BA0-484F-928C-6A2D92ECF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s of the upper respiratory system are affected by a common “head” co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p. 383, 385)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9121F9-2F7C-4A4C-B670-B2811EED6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ides the pharynx, what other components of the upper respiratory system can become inflamed by a case of pharyng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ypes of infections are the major causes of pharyngitis? (a viral infection is the most common cause; in children, it is often an extension of a bacterial streptococcal infection from the tonsils, adenoids, nose, or sinus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sinusotomy. (physician pierces the maxillary sinus, allowing drainage and relief of press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symptom of laryngitis? (inflammation of the larynx, including the vocal co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68B320-E206-48F0-83A0-3EE78AE995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inuses normally filled wi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ymptoms of sinus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warning signs of complications of sinus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263D51-8A93-4DDF-985D-06101B628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haryng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2B153A-21BC-4AD2-BFBB-F7D160CFBE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rhinoplas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causes of nasal polyps? 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serious complication from nasal polyps? (obstruction of the nasal airw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. 389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9D31C0-14F7-4A94-AC39-D70E316AB3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impairment or loss often accompanies anosm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s epistaxis considered severe and in need of immediate medical attention? (when it persists for 10 minutes or more after constant pressure is appl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Patient Teaching issues (pp. 390-39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460600" y="176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s life by supplying oxygen to organs, tissues and cells and allows removal of carbon diox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respiration - in the lungs, oxygen inhaled from the air is exchanged with carbon dioxide from the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respiration - exchange of gases between the blood and tissu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sal Polyp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sal Poly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enign growths that form as a consequence of distended mucous membranes protruding into nas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production of fluid in the cells of the mucous membra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the result of allergic rhi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staxis (nosebleed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d hemorrhage - controlled by applying direct, constant pressure on either side of nose for 5 to 10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bleeding - treated with local application of epinephrine followed by cauterization or nasal p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- surgical ligation of bleeding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lmonary Disorder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embolism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ccurs when a blood clot or other material, such as a foreign body or tumor, lodges in and blocks an artery in the pulmonary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neumon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the lungs due to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lmonary Embolis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embolism is lodged in artery and interrupts blood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mplicated embolism - cough, chest pain, low-grade fever and appreh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extensive - dyspnea, tachypnea (at least 20 breaths/minute), chest pain, occasional hemopt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ive embolism - sudden onset of cyanosis, shock and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n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 of Pneumon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phyl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A hemolytic strept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emophilus influenzae typ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ebsiella pneumoniae types 1 an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ypical pneumon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legionella, mycoplasma and chlamydia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s of Pneumon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no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uenza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ytial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be caused by damage to lungs, such as inhalation of poisonous gas such as chlorine or aspiration of foreign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lmonary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absces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a of contained infectious material in the 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complication of pneumonia caused by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piration of food, foreign object, bronchial stenosis or neopla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ic embolism is carried to lung via pulmonary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z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contagious, acute viral disease that occurs in annual out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luenz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risk of complications of influen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s over 50 years of 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nts of nursing h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chronic pulmonary cardiac disorder (including asth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with chronic metabolic disease (diabetes), renal dysfunction, hemoglobinopathies, immunosup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 and teens receiving long-term aspir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and chronic bronch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the mucous membrane lining the bronc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D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bronch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nchiec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ys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stic fib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con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onic Obstructive Pulmonary Disease (COP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465200"/>
            <a:ext cx="38005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latory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ory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57320" y="1960200"/>
            <a:ext cx="380052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nital de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ervous system damage or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eases of the Respirato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2093760" y="406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and Chronic Bronch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ymptoms subside within a week, cough may continue for 2-3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signs within lungs are few or ab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flammation persists and worsens, often occurs after colds or 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tructive and asthmatic symptoms app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nea, scattered rales and whe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9" descr="W0256-09-13"/>
          <p:cNvPicPr/>
          <p:nvPr/>
        </p:nvPicPr>
        <p:blipFill>
          <a:blip r:embed="rId1"/>
          <a:stretch/>
        </p:blipFill>
        <p:spPr>
          <a:xfrm>
            <a:off x="2925720" y="1465200"/>
            <a:ext cx="3292560" cy="4454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onic Obstructive Pulmona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384280" y="174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ffects of Smok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of oral cavity, larynx, esophag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c ul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bronchit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ys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atheroscle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of panc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of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emphysem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ronic obstructive pulmonary disorder characterized by destructive changes in alveolar walls and irreversible enlargement of alveolar air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onic Obstructive Pulmona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leuris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eurisy (pleuritis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membranes surrounding the lungs and lining the pleur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p, needle-like pain that increases with inspiration and co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experience fever, chills, and shallow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thorax and Hemothorax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neumothor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llection of air or gas in the pleural cavity that results in a collapsed or partially collapsed 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mothor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ccumulation of blood and other fluids in the pleur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neumothorax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of Collapsed 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shortness of br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sharp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ing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weak pu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llow and weak respi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cyanotic and anx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bercul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tuberculos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ronic, acute, or subacute infection of the lungs by Mycobacterium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d by inhaling a dried droplet nucleus that contains the tubercle bac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ectious Mononucleosi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ectious mononucleosi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pstein-Barr virus infection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herpesvirus infection (glandular fe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phadenopath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that typically peaks in aftern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lessness, malaise, chills, ano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e throat, fever, headache, fatigue, and cervical generalized lymphaden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nea (difficulty brea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ve or nonproductive cough (acute or chron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tysis (spitting up b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honia (hoarsen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 or high-grade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mptoms of Respiratory Disor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col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inflammatory process that affects the mucous membrane that lines the upper respiratory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us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or chronic inflammation of the mucous membranes of the paranasal sin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per Respiratory Tract Infec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ryng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ute or chronic infection of the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yngiti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lammation of the larynx, including the vocal 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per Respiratory Tract Infection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s for Sinus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-spectrum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nges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ist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ften an extension of bacterial streptococcal infection from tonsils, adenoids, nose, or tonsils (particularly in childr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secondary to systemic viral infection such as chickenpox or meas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sal Disord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iated septum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ooked nasal septum (cartilage partition between the nostri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sal polyp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nign growths that form as consequence of distended mucous membranes protruding into the nasal c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sal Disorder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'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osm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airment or loss of the sense of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pistaxis (nosebleed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morrhage from the n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4:59:33Z</dcterms:created>
  <dc:creator>Elaine Gillingham</dc:creator>
  <dc:description/>
  <dc:language>en-US</dc:language>
  <cp:lastModifiedBy>Student</cp:lastModifiedBy>
  <cp:lastPrinted>2001-09-24T00:45:23Z</cp:lastPrinted>
  <dcterms:modified xsi:type="dcterms:W3CDTF">2011-06-14T20:23:24Z</dcterms:modified>
  <cp:revision>840</cp:revision>
  <dc:subject/>
  <dc:title>Management Techniques for the Health Unit Coordinator</dc:title>
</cp:coreProperties>
</file>